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n NPT, not YG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 point #2, installation will be carried out by government financed contractors or utilities themsel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specify where ad will be made globally in English (UNDB website and other sites? ) and how to acces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PE is not relevant here.  Please change “MEPE and Utilitites” to “MOE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98640" y="704880"/>
            <a:ext cx="5013360" cy="34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168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clarify that 15% preference applies to locally manufactured goods regardless of the nationality of the owner– this is important particularly when  Myanmar will have more and more JVs in the fu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D0D-6445-45A7-8315-AF3F525D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146-5558-431B-B092-EDBDC375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74D04-68F1-4021-8642-2477FAB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0C63-5AB3-4634-836F-CCB6179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E3A76-9BB3-4330-B95A-32ADEE62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24B21-6E75-496C-B365-8D24479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6D81-D30F-41A1-84A6-A36231B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6286A-3B3E-4B63-BFDA-F5D7D6F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60220-697A-4AA9-95FE-B456A5F9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89627-4664-4105-97F3-BBB16DED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D17F9-43BF-4770-A045-EBD7C1C3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320E5-30F2-4630-8CD4-D7624D9B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A71-C18F-413B-9D08-094479D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72E0-4A17-4801-AD33-B16B5425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72EE1-6EA2-4F5D-B61A-01F92F9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4C80-74A3-4ED7-BE94-D6A7C35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95FBF-8C89-4132-9F35-5C9DFE5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51F50-8630-41F3-B8D1-559108D4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A2AAA-8165-40E5-9BDA-541E078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578B7-9C44-44F3-998E-E0EEB94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F0DF6-154F-4653-ACB5-EA467B8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11409-9822-410F-8342-D87B3A1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D9114-ACB0-4A30-B094-2CB70F46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0FC-DE6D-4592-A535-B2F9CE03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47612-3D9B-480A-A2E0-1A8703D1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F875-5AE6-46A0-9843-0EF700AE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702C-1B49-4570-85CB-99D5A80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B831-478C-401C-B916-0C9C016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194B3-6608-4DF3-BD22-0C2478E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4E5C-3C7B-46CB-979C-73E79FC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BFF9-99EE-49F6-89E5-D0B8D224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AE378-5E52-489B-AF3A-1E69A1E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108FE-4866-49C2-A0D6-24DDE45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B190-A8DD-414E-901E-AA855A9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6A0-D53C-4DD4-A93F-141002DD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48508-52B4-4381-AAD6-0E32449D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EA3E4-027B-4E4D-98EC-EA3AAF12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10C28-C474-4F4F-A599-B3144CAE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2D09A-DCF5-408B-A525-64D79CE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B26D1-CDA8-48AF-96B0-B5EC73D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1581-657A-4FBA-A057-F2BDC6B4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B6DE7-8AA2-4731-B322-69B3EC1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60BC4-B28E-4B9A-A5DD-C08F31D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3C6D6-E40F-4173-8D60-A77E549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D91E-EF42-4BFC-80F4-2B6C596F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2C2-F695-4A9E-ADD9-1F06A77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F6B2-96B5-4ACB-A5A3-597E471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F796E-560C-45E3-B645-41EA482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E1E90-AB21-495F-BB3B-3E540CD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AA951-76CF-4B8A-87AF-C128A8C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D9CEF-DF60-4A24-AD9C-C779EF8D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DB72-109A-401D-AA24-1726F2D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3DA2-AFF6-452E-9E7F-68F4746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E93B-9106-4532-8B68-CF262428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7C0-5423-444B-BA8B-98B52A7F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A2B6-4824-4A55-9AA6-23B7F65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E70-5053-45C6-8546-18CD6CE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6CA-3DB3-40C9-B6AC-FDA6C74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86E0-EBCD-4C2A-8AA4-4D6B75F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D95C-2624-41B1-951F-EDBAD3A8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662E-E8A5-493F-9ECB-4856E754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DF9-F814-400A-8419-CD4B94A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256-1799-47AF-8992-929DA04C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3174-5C39-43EE-B3B8-BD11ABA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516B-7B3F-4D6D-9593-988149F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AB87-B1FF-4180-9DFF-8A19B126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93FC-F085-4C0C-A83F-A8D9FA6D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C0A-10EA-49D5-B021-95E0A597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83F2-CB0E-41FF-A560-A98FD21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0518-194B-45E8-A600-4D3F987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0A8B-A0F4-44E4-8F94-1EC5261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6A28-F659-4DF4-AD36-C0A04F0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E287-1B26-448C-BB40-B1F3AA8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5386-5B03-497D-8EF4-2289F8CD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C287-C9A0-4BB1-9683-536EEB89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53FE-3856-4FB8-86B9-D8173287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438B-9BAE-4B62-B5AC-670224D8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E97B-0E2F-4831-917F-E0F8957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E4C-A5F1-43EB-89CE-078902A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0B81-0391-4B60-9FB7-673AC4E8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D33F-55E1-4479-9E9D-8E2FC8D9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CB78-1547-4CB2-A1F8-0A26823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7305-7873-4EF8-BDD0-3C9BBAE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C92E-11B6-4B33-820E-B01C8B8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7EA9-9965-4899-994C-9FA2831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0E76-095E-4C85-9F65-597232C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8447-A16F-4CCA-A564-490E0167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B822-91D0-4A5E-B96D-13FF2CA5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2D98-3691-49CA-9759-99F6C92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58B-E741-4919-A65D-704D11DB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385A-D429-468F-9740-FE43CDAB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1FD0-51BF-4443-959E-9A07FA1A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2E77-2BF0-432A-8D97-DD4F712E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492C7-6E78-4CA8-AC22-FB27E49F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4067A-0928-452F-B387-2C0CE734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F94A-F460-40F8-81D0-B07DE87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99FD-7BD8-4FD5-AB06-E77DE95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AF07-FBAB-4B3C-967D-BF39EB0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D05D-CE7A-4BAC-94B9-E90120A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96EC-24BA-4077-8E29-7F47AB15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106-E05D-4290-A4FC-03B1763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B0169-11BE-4EBA-9A19-D8D24AF6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40E1-69D0-41C4-BE04-1A692505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08E2-282B-4DE1-8D52-52D024FF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190FA-8F87-430C-B6D2-46E94D1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2A14-5AB7-4169-B525-87C3D39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15FA-C0D8-4214-83BB-3B2395D6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6890-FF10-42C5-9760-B3277E70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4E7C-C186-4EA6-892B-3061315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1CB5-EEC7-46EA-92DB-1420D7E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747D-9DC2-4BA4-8B20-61D1D82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F10-8B5C-4232-8235-6B8E949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3D79-6251-4DC3-AEF5-97DFA43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1807-68AB-4E01-A73D-7F1E65E6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B350-193B-403B-826C-B018ECE6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66A0-EE8A-4194-8757-7142C52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8427B-48F5-4F42-A15D-14CB423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298C-A449-46C6-B394-74940F0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B8A02-4180-4196-BC36-67463703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84E1C-E356-4AB9-BFB1-D9A755A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6892F-5AD7-4D14-AE1F-342F358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0A7FB-52C8-4821-88DC-364576A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FAE-812A-455B-BCAC-CD27B7B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9458-8ADE-403F-8126-0BA72A2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36F2-6DA8-47A4-8F68-E749647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9305-46D6-4986-AE5B-2326F7FB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FC52-2DB1-4DFB-80EE-5A30E98A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6EDF-A800-4921-B567-6984A335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09FE-8CEC-4839-BE72-BEF9334D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3452-2136-4131-A753-7A359A1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BC513-3B4E-4E5B-B9C0-3A78A732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C80C6-2777-4B47-B0C3-047B85BE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B567-DACE-46C6-9250-620BD29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B6C-7ADF-4C70-B5E9-9D33D89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92080" y="287280"/>
            <a:ext cx="817272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09BA0-0C0B-44B3-9399-8234CEA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8C99-0E00-46CB-9DFC-0C88556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06F4B-9A49-41C9-95A8-93F6CB8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A61D-3E3E-42E9-8A07-8DA6335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92080" y="3947400"/>
            <a:ext cx="81727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530F-2623-453C-8CB6-681FA2A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79960" y="184644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9208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960" y="3947400"/>
            <a:ext cx="398808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E9E7-A898-453E-B96C-0F59635F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55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18440" y="184644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9208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55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18440" y="3947400"/>
            <a:ext cx="2631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9048-5CA1-4ED9-8BE0-532C3FE1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44DF-9F5C-4105-8CA1-C252E6C8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2021B-51D1-41EB-B2A5-475E20F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EA3C-DFA0-4F81-A0B7-73E8AC76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CAA8-F272-48E8-9C49-858DD284639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F67F-F697-4169-B962-5E4B24F5E1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90288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CDED-3C50-45CE-9488-D7288647A2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1F7-A6BC-4F19-A7D7-915214396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FDB-8F4E-4238-AB15-BF88477D31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4608-A4F3-4722-9DA5-FD3B6E213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C8E-0A1E-479B-BD3E-F4CB009A9F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81000" y="4343400"/>
            <a:ext cx="8023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56D1-EB3F-4115-B831-B06256AECA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DCB-8582-4E9D-A9C2-566E6B8C3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F723-E3D1-43E5-8026-33739AE9A9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90612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969840" y="1738440"/>
            <a:ext cx="80978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EF2-BA3A-4217-A83B-14E563E868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90288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90288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9172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99520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0EE-D0B7-4F5D-B8A5-2FF4F78EF5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29076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282840" y="0"/>
            <a:ext cx="5256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77640" y="6459480"/>
            <a:ext cx="212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27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900600" y="6459480"/>
            <a:ext cx="377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04348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F00-3866-4EA5-A6DE-0F028539B4D6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nvestigations_hotline@worldbank.org" TargetMode="External"/><Relationship Id="rId2" Type="http://schemas.openxmlformats.org/officeDocument/2006/relationships/hyperlink" Target="http://www.worldbank.org/integrity" TargetMode="External"/><Relationship Id="rId3" Type="http://schemas.openxmlformats.org/officeDocument/2006/relationships/hyperlink" Target="http://wbln0018.worldbank.org/acfiu/acfiuweb.nsf/(intlinks)/CTON-5PKVJA?opendocument" TargetMode="External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documents.worldbank.org/" TargetMode="External"/><Relationship Id="rId2" Type="http://schemas.openxmlformats.org/officeDocument/2006/relationships/hyperlink" Target="http://documents.worldbank.org/curated/en/docadvancesearch" TargetMode="External"/><Relationship Id="rId3" Type="http://schemas.openxmlformats.org/officeDocument/2006/relationships/hyperlink" Target="http://documents.worldbank.org/curated/en/docadvancesearch" TargetMode="External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5"/>
          <p:cNvSpPr/>
          <p:nvPr/>
        </p:nvSpPr>
        <p:spPr>
          <a:xfrm>
            <a:off x="863640" y="228600"/>
            <a:ext cx="90424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05552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8"/>
          <p:cNvSpPr/>
          <p:nvPr/>
        </p:nvSpPr>
        <p:spPr>
          <a:xfrm>
            <a:off x="847800" y="2120760"/>
            <a:ext cx="8207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REACH SEMINAR FOR N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Opportun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World Bank funded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4672080" y="4578480"/>
            <a:ext cx="557280" cy="5824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7"/>
          <p:cNvSpPr/>
          <p:nvPr/>
        </p:nvSpPr>
        <p:spPr>
          <a:xfrm>
            <a:off x="4297680" y="54975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414240" y="61128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ngon – November 24, 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1596960" y="1724040"/>
            <a:ext cx="2700360" cy="4343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400" y="958680"/>
            <a:ext cx="83390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World Bank Procurement  Guideline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562040" y="2030400"/>
            <a:ext cx="263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curement of goods, works and non-consulting servic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nder IBRD Loans an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DA Credits &amp; Grants by World Bank Borrower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anuary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vised July 2014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3071880" y="6400800"/>
            <a:ext cx="46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799956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8B8-3BF0-4E37-9A57-ACEE284D574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1549440" y="2463840"/>
            <a:ext cx="271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5435640" y="1790640"/>
            <a:ext cx="2674800" cy="433224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5448240" y="2019240"/>
            <a:ext cx="260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IBRD Loan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A Credits &amp; Gr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World Bank Borr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sed July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5429160" y="2463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slogoani"/>
          <p:cNvPicPr/>
          <p:nvPr/>
        </p:nvPicPr>
        <p:blipFill>
          <a:blip r:embed="rId1"/>
          <a:stretch/>
        </p:blipFill>
        <p:spPr>
          <a:xfrm>
            <a:off x="133200" y="0"/>
            <a:ext cx="1189080" cy="993600"/>
          </a:xfrm>
          <a:prstGeom prst="rect">
            <a:avLst/>
          </a:prstGeom>
          <a:ln w="0">
            <a:noFill/>
          </a:ln>
        </p:spPr>
      </p:pic>
      <p:sp>
        <p:nvSpPr>
          <p:cNvPr id="663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9163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The Bidding Documen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07560" y="1960200"/>
            <a:ext cx="7939080" cy="2787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idding documents include draft contract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contrast to the procurement guidelines, SBDs set out the rules for a particular tende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btain  and Read carefully the Bidding Document issued by the Implementing Agency 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0725-0067-434B-AF7C-7FED33700D6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tructure of the Standard Bidding Documents (SBD)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760" y="1262160"/>
          <a:ext cx="9279000" cy="5106960"/>
        </p:xfrm>
        <a:graphic>
          <a:graphicData uri="http://schemas.openxmlformats.org/drawingml/2006/table">
            <a:tbl>
              <a:tblPr/>
              <a:tblGrid>
                <a:gridCol w="2958840"/>
                <a:gridCol w="4305600"/>
                <a:gridCol w="20145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USED UNCHANG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CUSTOMIZED BY PURCHA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O BE FILLED OUT BY BID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Instructions to Bidders (I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Bid Data Sheet (B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</a:tr>
              <a:tr h="243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II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Evaluation and Qualification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.  Eligible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Purchaser's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V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Bidding Fo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e9"/>
                    </a:solidFill>
                  </a:tcPr>
                </a:tc>
              </a:tr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. 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General Conditions of Contract (GC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VIII. 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pecial Conditions of Contract (SC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Section IX.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81d58"/>
                          </a:solidFill>
                          <a:latin typeface="Agency FB"/>
                        </a:rPr>
                        <a:t> Contract Fo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7cf"/>
                    </a:solidFill>
                  </a:tcPr>
                </a:tc>
              </a:tr>
            </a:tbl>
          </a:graphicData>
        </a:graphic>
      </p:graphicFrame>
      <p:sp>
        <p:nvSpPr>
          <p:cNvPr id="671" name="Footer Placeholder 5"/>
          <p:cNvSpPr/>
          <p:nvPr/>
        </p:nvSpPr>
        <p:spPr>
          <a:xfrm>
            <a:off x="3116160" y="640080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C799-EDB0-4F2E-8271-8331C79FC45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2680" y="-3052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idding  and Contract form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6360" y="1311120"/>
            <a:ext cx="494676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dding For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ter of B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s of Rates and Pr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Propos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dder Information She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y to JVA Information She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Contract Non-Performa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Contract Commitments/Works in Prog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Situ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ence – General &amp; Specifi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 of Bid Security (Bank Guarantee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12280" indent="-22608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facturer’s Authoriz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789520" y="112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ract Forms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completed, will form part of the Contract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ce Security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vance Payment Secur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5D0-6ED5-4655-A772-6932A5BD832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63280" y="302724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Play by the rul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10880" y="197604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4068"/>
                </a:solidFill>
                <a:latin typeface="Calibri Light"/>
              </a:rPr>
              <a:t>PART II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823-83A3-4FFA-BAE6-D7FAC5B8147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2680" y="198000"/>
            <a:ext cx="84200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Important Provisions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60240" y="1231560"/>
            <a:ext cx="893160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ligibility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TB 4)-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You are not allowed to participate if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 are in a Conflict of Interest situation with regards to this particular ten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r are a State Owned Enterprise that is not  legally, financially autonomous and does not operate under commercial law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y compliance with a UN Security Council Sanctions, Borrower’s country prohibits any import of goods from, or payments to, your country, person, or entity and/or prohibits payments to your firm or for goods your are offer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 are under sanction by the Bank or other MDBs relating to fraud and corrup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f you are not fulfilling legal requirements as required by the country e.g. paying tax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BCD-A75B-46A1-8D75-32C52DD6830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circumstances would be regarded as conflict of interes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Providing goods resulting from consulting services provided by yourself or affiliat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Submitting more than one bid as individual or JV. Does not include subcontr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Close family or business relationship with staff of implementing agenc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Directly or indirectly controls or is controlled  by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Receives or has received subsidy from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Has the same legal representative as another bidd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7A74-5789-481B-95EB-208D6092A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tate owned enterprise may participate under following circumstances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Can demonstrate that they are legally, financial and managerially autonomous (Submit all legal documents and Bank will asses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Not bidding for a contract under its supervising minist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In agreement with the Bank if works are scattered and remote  such that it is not feasible to obtain competitive bid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- In areas of  conflict or strife where it is not practical for private sector to operate  effective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BD4-1C00-4874-8F17-56B5142C324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2684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Documents Comprising the Bid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922400"/>
            <a:ext cx="460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a) Letter of B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b) Completed schedu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c) Bid Security or Bid Securing Declaration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d) Alternative bids, if permissible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e) Written confirmation authorizing the signatory of the Bid to commit the Bidder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f) Documentary evidence that the Plant and Installation Services offered  are eligible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(country of origin declaration form)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g) Documentary evidence establishing Bidder’s eligibility &amp; qualifications to perform the contract;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754520" y="1922040"/>
            <a:ext cx="5151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h) Documentary evidence that the Plant &amp; Installation Services offered conform to the Bidding Document </a:t>
            </a: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(substantial responsiveness of proposal of work requirements and completion time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i) In the case of a bid submitted by a Joint Venture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JV agreement, or letter of intent to enter into a JVA including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a draft agreement, indicating at least the parts of the Plant to be executed by the respective partners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j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ist name and nationality of the proposed subcontractors, including manufacturers; an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(k)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ny other document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in the B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3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84F9-A77D-48BF-B179-DC6CA5F797C4}" type="slidenum">
              <a:rPr b="0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ome Important Provisions (1)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id Security (BS)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98000" y="1460520"/>
            <a:ext cx="45831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idity of Bid Security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ant to show bidder is seriou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rmally between 0.5-2% of bid pric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ll be valid for twenty-eight days (28) beyond the original validity period of the bid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bid not accompanied by a substantially responsive bid security shall be rejected as non responsive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id security should be in name of bidder NOT agent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51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id security may be forfeited if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16812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id is withdrawn during the period of bid validity o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168120">
              <a:lnSpc>
                <a:spcPct val="10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uccessful Bidder fails to (i) sign the Contract; or (ii) furnish a performance security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892400" y="149076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57200" indent="-16812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are killing your bid if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d security is not included in the b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is not for the full am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is not for the entire bid validity peri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39528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S refers to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bidder (in joint ventures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tners must be   listed)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Employer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rong contract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8200" indent="-565200">
              <a:lnSpc>
                <a:spcPct val="70000"/>
              </a:lnSpc>
              <a:spcBef>
                <a:spcPts val="6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t (when the bid is for several lo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AC98-4AE1-4D29-8794-68AECFE76D9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8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BB6-44D5-49C6-919D-75A3A7CFBA0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55640" y="324000"/>
            <a:ext cx="8420040" cy="95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4068"/>
                </a:solidFill>
                <a:latin typeface="Arial"/>
              </a:rPr>
              <a:t>Objective of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2093760" y="1279440"/>
            <a:ext cx="726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at should I know about WB f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project &amp; procurement activ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o are the key players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How to participate in Bank funded proj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How to prepare a responsive bid</a:t>
            </a: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 (key bid requirements and common pitfalls in bid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National Electric Project  Specific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rial"/>
              </a:rPr>
              <a:t>Where to find more inform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6"/>
          <p:cNvGrpSpPr/>
          <p:nvPr/>
        </p:nvGrpSpPr>
        <p:grpSpPr>
          <a:xfrm>
            <a:off x="1681200" y="1390680"/>
            <a:ext cx="247680" cy="228240"/>
            <a:chOff x="1681200" y="1390680"/>
            <a:chExt cx="247680" cy="228240"/>
          </a:xfrm>
        </p:grpSpPr>
        <p:sp>
          <p:nvSpPr>
            <p:cNvPr id="540" name="Freeform 7"/>
            <p:cNvSpPr/>
            <p:nvPr/>
          </p:nvSpPr>
          <p:spPr>
            <a:xfrm>
              <a:off x="1697400" y="14050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1681200" y="139068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1692720" y="139860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1707480" y="141012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1723320" y="144720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12"/>
            <p:cNvSpPr/>
            <p:nvPr/>
          </p:nvSpPr>
          <p:spPr>
            <a:xfrm>
              <a:off x="1725120" y="153252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>
              <a:off x="1797120" y="141444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>
              <a:off x="1709280" y="150084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1751040" y="141084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6"/>
            <p:cNvSpPr/>
            <p:nvPr/>
          </p:nvSpPr>
          <p:spPr>
            <a:xfrm>
              <a:off x="1797120" y="141084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1681200" y="139068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8"/>
          <p:cNvGrpSpPr/>
          <p:nvPr/>
        </p:nvGrpSpPr>
        <p:grpSpPr>
          <a:xfrm>
            <a:off x="1778040" y="2556000"/>
            <a:ext cx="247680" cy="228240"/>
            <a:chOff x="1778040" y="2556000"/>
            <a:chExt cx="247680" cy="228240"/>
          </a:xfrm>
        </p:grpSpPr>
        <p:sp>
          <p:nvSpPr>
            <p:cNvPr id="552" name="Freeform 19"/>
            <p:cNvSpPr/>
            <p:nvPr/>
          </p:nvSpPr>
          <p:spPr>
            <a:xfrm>
              <a:off x="1794240" y="25704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>
              <a:off x="1778040" y="255600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1"/>
            <p:cNvSpPr/>
            <p:nvPr/>
          </p:nvSpPr>
          <p:spPr>
            <a:xfrm>
              <a:off x="1789560" y="256392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2"/>
            <p:cNvSpPr/>
            <p:nvPr/>
          </p:nvSpPr>
          <p:spPr>
            <a:xfrm>
              <a:off x="1804320" y="257544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23"/>
            <p:cNvSpPr/>
            <p:nvPr/>
          </p:nvSpPr>
          <p:spPr>
            <a:xfrm>
              <a:off x="1820160" y="261252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24"/>
            <p:cNvSpPr/>
            <p:nvPr/>
          </p:nvSpPr>
          <p:spPr>
            <a:xfrm>
              <a:off x="1821960" y="269784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5"/>
            <p:cNvSpPr/>
            <p:nvPr/>
          </p:nvSpPr>
          <p:spPr>
            <a:xfrm>
              <a:off x="1893960" y="257976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6"/>
            <p:cNvSpPr/>
            <p:nvPr/>
          </p:nvSpPr>
          <p:spPr>
            <a:xfrm>
              <a:off x="1806120" y="266616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1847880" y="257616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1893960" y="257616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1778040" y="255600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30"/>
          <p:cNvGrpSpPr/>
          <p:nvPr/>
        </p:nvGrpSpPr>
        <p:grpSpPr>
          <a:xfrm>
            <a:off x="1789200" y="3164040"/>
            <a:ext cx="247680" cy="228240"/>
            <a:chOff x="1789200" y="3164040"/>
            <a:chExt cx="247680" cy="228240"/>
          </a:xfrm>
        </p:grpSpPr>
        <p:sp>
          <p:nvSpPr>
            <p:cNvPr id="564" name="Freeform 31"/>
            <p:cNvSpPr/>
            <p:nvPr/>
          </p:nvSpPr>
          <p:spPr>
            <a:xfrm>
              <a:off x="1805400" y="3178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1789200" y="3164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1800720" y="3171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1815480" y="3183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1831320" y="3220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1833120" y="3305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7"/>
            <p:cNvSpPr/>
            <p:nvPr/>
          </p:nvSpPr>
          <p:spPr>
            <a:xfrm>
              <a:off x="1905120" y="3187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38"/>
            <p:cNvSpPr/>
            <p:nvPr/>
          </p:nvSpPr>
          <p:spPr>
            <a:xfrm>
              <a:off x="1817280" y="3274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1859040" y="3184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1905120" y="3184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1789200" y="3164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42"/>
          <p:cNvGrpSpPr/>
          <p:nvPr/>
        </p:nvGrpSpPr>
        <p:grpSpPr>
          <a:xfrm>
            <a:off x="1809720" y="3841920"/>
            <a:ext cx="247680" cy="228240"/>
            <a:chOff x="1809720" y="3841920"/>
            <a:chExt cx="247680" cy="228240"/>
          </a:xfrm>
        </p:grpSpPr>
        <p:sp>
          <p:nvSpPr>
            <p:cNvPr id="576" name="Freeform 43"/>
            <p:cNvSpPr/>
            <p:nvPr/>
          </p:nvSpPr>
          <p:spPr>
            <a:xfrm>
              <a:off x="1825920" y="38563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1809720" y="384192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821240" y="384984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836000" y="386136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851840" y="389844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853640" y="398376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>
              <a:off x="1925640" y="386568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>
              <a:off x="1837800" y="395208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1879560" y="386208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52"/>
            <p:cNvSpPr/>
            <p:nvPr/>
          </p:nvSpPr>
          <p:spPr>
            <a:xfrm>
              <a:off x="1925640" y="386208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53"/>
            <p:cNvSpPr/>
            <p:nvPr/>
          </p:nvSpPr>
          <p:spPr>
            <a:xfrm>
              <a:off x="1809720" y="384192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42"/>
          <p:cNvGrpSpPr/>
          <p:nvPr/>
        </p:nvGrpSpPr>
        <p:grpSpPr>
          <a:xfrm>
            <a:off x="1901880" y="4748040"/>
            <a:ext cx="247680" cy="228240"/>
            <a:chOff x="1901880" y="4748040"/>
            <a:chExt cx="247680" cy="228240"/>
          </a:xfrm>
        </p:grpSpPr>
        <p:sp>
          <p:nvSpPr>
            <p:cNvPr id="588" name="Freeform 43"/>
            <p:cNvSpPr/>
            <p:nvPr/>
          </p:nvSpPr>
          <p:spPr>
            <a:xfrm>
              <a:off x="1918080" y="47624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44"/>
            <p:cNvSpPr/>
            <p:nvPr/>
          </p:nvSpPr>
          <p:spPr>
            <a:xfrm>
              <a:off x="1901880" y="4748040"/>
              <a:ext cx="231480" cy="213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72" h="1016">
                  <a:moveTo>
                    <a:pt x="0" y="1015"/>
                  </a:moveTo>
                  <a:lnTo>
                    <a:pt x="1071" y="1015"/>
                  </a:lnTo>
                  <a:lnTo>
                    <a:pt x="1071" y="0"/>
                  </a:lnTo>
                  <a:lnTo>
                    <a:pt x="0" y="0"/>
                  </a:lnTo>
                  <a:lnTo>
                    <a:pt x="0" y="101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5"/>
            <p:cNvSpPr/>
            <p:nvPr/>
          </p:nvSpPr>
          <p:spPr>
            <a:xfrm>
              <a:off x="1913400" y="4755960"/>
              <a:ext cx="209160" cy="198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968" h="944">
                  <a:moveTo>
                    <a:pt x="967" y="472"/>
                  </a:moveTo>
                  <a:lnTo>
                    <a:pt x="964" y="423"/>
                  </a:lnTo>
                  <a:lnTo>
                    <a:pt x="955" y="376"/>
                  </a:lnTo>
                  <a:lnTo>
                    <a:pt x="943" y="330"/>
                  </a:lnTo>
                  <a:lnTo>
                    <a:pt x="928" y="288"/>
                  </a:lnTo>
                  <a:lnTo>
                    <a:pt x="907" y="248"/>
                  </a:lnTo>
                  <a:lnTo>
                    <a:pt x="883" y="208"/>
                  </a:lnTo>
                  <a:lnTo>
                    <a:pt x="856" y="172"/>
                  </a:lnTo>
                  <a:lnTo>
                    <a:pt x="824" y="139"/>
                  </a:lnTo>
                  <a:lnTo>
                    <a:pt x="789" y="108"/>
                  </a:lnTo>
                  <a:lnTo>
                    <a:pt x="752" y="81"/>
                  </a:lnTo>
                  <a:lnTo>
                    <a:pt x="713" y="57"/>
                  </a:lnTo>
                  <a:lnTo>
                    <a:pt x="671" y="37"/>
                  </a:lnTo>
                  <a:lnTo>
                    <a:pt x="627" y="22"/>
                  </a:lnTo>
                  <a:lnTo>
                    <a:pt x="580" y="11"/>
                  </a:lnTo>
                  <a:lnTo>
                    <a:pt x="533" y="2"/>
                  </a:lnTo>
                  <a:lnTo>
                    <a:pt x="482" y="0"/>
                  </a:lnTo>
                  <a:lnTo>
                    <a:pt x="433" y="2"/>
                  </a:lnTo>
                  <a:lnTo>
                    <a:pt x="386" y="11"/>
                  </a:lnTo>
                  <a:lnTo>
                    <a:pt x="339" y="22"/>
                  </a:lnTo>
                  <a:lnTo>
                    <a:pt x="295" y="37"/>
                  </a:lnTo>
                  <a:lnTo>
                    <a:pt x="252" y="57"/>
                  </a:lnTo>
                  <a:lnTo>
                    <a:pt x="213" y="81"/>
                  </a:lnTo>
                  <a:lnTo>
                    <a:pt x="177" y="108"/>
                  </a:lnTo>
                  <a:lnTo>
                    <a:pt x="142" y="139"/>
                  </a:lnTo>
                  <a:lnTo>
                    <a:pt x="110" y="172"/>
                  </a:lnTo>
                  <a:lnTo>
                    <a:pt x="83" y="208"/>
                  </a:lnTo>
                  <a:lnTo>
                    <a:pt x="59" y="248"/>
                  </a:lnTo>
                  <a:lnTo>
                    <a:pt x="38" y="288"/>
                  </a:lnTo>
                  <a:lnTo>
                    <a:pt x="23" y="330"/>
                  </a:lnTo>
                  <a:lnTo>
                    <a:pt x="11" y="376"/>
                  </a:lnTo>
                  <a:lnTo>
                    <a:pt x="2" y="423"/>
                  </a:lnTo>
                  <a:lnTo>
                    <a:pt x="0" y="472"/>
                  </a:lnTo>
                  <a:lnTo>
                    <a:pt x="2" y="519"/>
                  </a:lnTo>
                  <a:lnTo>
                    <a:pt x="11" y="566"/>
                  </a:lnTo>
                  <a:lnTo>
                    <a:pt x="23" y="610"/>
                  </a:lnTo>
                  <a:lnTo>
                    <a:pt x="38" y="653"/>
                  </a:lnTo>
                  <a:lnTo>
                    <a:pt x="59" y="694"/>
                  </a:lnTo>
                  <a:lnTo>
                    <a:pt x="83" y="734"/>
                  </a:lnTo>
                  <a:lnTo>
                    <a:pt x="110" y="770"/>
                  </a:lnTo>
                  <a:lnTo>
                    <a:pt x="142" y="804"/>
                  </a:lnTo>
                  <a:lnTo>
                    <a:pt x="177" y="834"/>
                  </a:lnTo>
                  <a:lnTo>
                    <a:pt x="213" y="861"/>
                  </a:lnTo>
                  <a:lnTo>
                    <a:pt x="252" y="885"/>
                  </a:lnTo>
                  <a:lnTo>
                    <a:pt x="295" y="905"/>
                  </a:lnTo>
                  <a:lnTo>
                    <a:pt x="339" y="920"/>
                  </a:lnTo>
                  <a:lnTo>
                    <a:pt x="386" y="933"/>
                  </a:lnTo>
                  <a:lnTo>
                    <a:pt x="433" y="940"/>
                  </a:lnTo>
                  <a:lnTo>
                    <a:pt x="482" y="943"/>
                  </a:lnTo>
                  <a:lnTo>
                    <a:pt x="533" y="940"/>
                  </a:lnTo>
                  <a:lnTo>
                    <a:pt x="580" y="933"/>
                  </a:lnTo>
                  <a:lnTo>
                    <a:pt x="627" y="920"/>
                  </a:lnTo>
                  <a:lnTo>
                    <a:pt x="671" y="905"/>
                  </a:lnTo>
                  <a:lnTo>
                    <a:pt x="713" y="885"/>
                  </a:lnTo>
                  <a:lnTo>
                    <a:pt x="752" y="861"/>
                  </a:lnTo>
                  <a:lnTo>
                    <a:pt x="824" y="804"/>
                  </a:lnTo>
                  <a:lnTo>
                    <a:pt x="856" y="770"/>
                  </a:lnTo>
                  <a:lnTo>
                    <a:pt x="883" y="734"/>
                  </a:lnTo>
                  <a:lnTo>
                    <a:pt x="907" y="694"/>
                  </a:lnTo>
                  <a:lnTo>
                    <a:pt x="928" y="653"/>
                  </a:lnTo>
                  <a:lnTo>
                    <a:pt x="943" y="610"/>
                  </a:lnTo>
                  <a:lnTo>
                    <a:pt x="955" y="566"/>
                  </a:lnTo>
                  <a:lnTo>
                    <a:pt x="964" y="519"/>
                  </a:lnTo>
                  <a:lnTo>
                    <a:pt x="967" y="4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6"/>
            <p:cNvSpPr/>
            <p:nvPr/>
          </p:nvSpPr>
          <p:spPr>
            <a:xfrm>
              <a:off x="1928160" y="4767480"/>
              <a:ext cx="183240" cy="177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849" h="845">
                  <a:moveTo>
                    <a:pt x="848" y="422"/>
                  </a:moveTo>
                  <a:lnTo>
                    <a:pt x="845" y="379"/>
                  </a:lnTo>
                  <a:lnTo>
                    <a:pt x="838" y="337"/>
                  </a:lnTo>
                  <a:lnTo>
                    <a:pt x="829" y="296"/>
                  </a:lnTo>
                  <a:lnTo>
                    <a:pt x="814" y="257"/>
                  </a:lnTo>
                  <a:lnTo>
                    <a:pt x="796" y="222"/>
                  </a:lnTo>
                  <a:lnTo>
                    <a:pt x="775" y="186"/>
                  </a:lnTo>
                  <a:lnTo>
                    <a:pt x="750" y="154"/>
                  </a:lnTo>
                  <a:lnTo>
                    <a:pt x="723" y="123"/>
                  </a:lnTo>
                  <a:lnTo>
                    <a:pt x="693" y="97"/>
                  </a:lnTo>
                  <a:lnTo>
                    <a:pt x="659" y="72"/>
                  </a:lnTo>
                  <a:lnTo>
                    <a:pt x="626" y="51"/>
                  </a:lnTo>
                  <a:lnTo>
                    <a:pt x="588" y="33"/>
                  </a:lnTo>
                  <a:lnTo>
                    <a:pt x="550" y="18"/>
                  </a:lnTo>
                  <a:lnTo>
                    <a:pt x="509" y="9"/>
                  </a:lnTo>
                  <a:lnTo>
                    <a:pt x="468" y="2"/>
                  </a:lnTo>
                  <a:lnTo>
                    <a:pt x="425" y="0"/>
                  </a:lnTo>
                  <a:lnTo>
                    <a:pt x="380" y="2"/>
                  </a:lnTo>
                  <a:lnTo>
                    <a:pt x="338" y="9"/>
                  </a:lnTo>
                  <a:lnTo>
                    <a:pt x="297" y="18"/>
                  </a:lnTo>
                  <a:lnTo>
                    <a:pt x="260" y="33"/>
                  </a:lnTo>
                  <a:lnTo>
                    <a:pt x="223" y="51"/>
                  </a:lnTo>
                  <a:lnTo>
                    <a:pt x="187" y="72"/>
                  </a:lnTo>
                  <a:lnTo>
                    <a:pt x="154" y="97"/>
                  </a:lnTo>
                  <a:lnTo>
                    <a:pt x="124" y="123"/>
                  </a:lnTo>
                  <a:lnTo>
                    <a:pt x="97" y="154"/>
                  </a:lnTo>
                  <a:lnTo>
                    <a:pt x="74" y="186"/>
                  </a:lnTo>
                  <a:lnTo>
                    <a:pt x="52" y="222"/>
                  </a:lnTo>
                  <a:lnTo>
                    <a:pt x="33" y="257"/>
                  </a:lnTo>
                  <a:lnTo>
                    <a:pt x="19" y="296"/>
                  </a:lnTo>
                  <a:lnTo>
                    <a:pt x="9" y="337"/>
                  </a:lnTo>
                  <a:lnTo>
                    <a:pt x="2" y="379"/>
                  </a:lnTo>
                  <a:lnTo>
                    <a:pt x="0" y="422"/>
                  </a:lnTo>
                  <a:lnTo>
                    <a:pt x="2" y="464"/>
                  </a:lnTo>
                  <a:lnTo>
                    <a:pt x="9" y="506"/>
                  </a:lnTo>
                  <a:lnTo>
                    <a:pt x="19" y="547"/>
                  </a:lnTo>
                  <a:lnTo>
                    <a:pt x="33" y="586"/>
                  </a:lnTo>
                  <a:lnTo>
                    <a:pt x="52" y="621"/>
                  </a:lnTo>
                  <a:lnTo>
                    <a:pt x="74" y="657"/>
                  </a:lnTo>
                  <a:lnTo>
                    <a:pt x="97" y="689"/>
                  </a:lnTo>
                  <a:lnTo>
                    <a:pt x="124" y="720"/>
                  </a:lnTo>
                  <a:lnTo>
                    <a:pt x="154" y="746"/>
                  </a:lnTo>
                  <a:lnTo>
                    <a:pt x="187" y="771"/>
                  </a:lnTo>
                  <a:lnTo>
                    <a:pt x="223" y="792"/>
                  </a:lnTo>
                  <a:lnTo>
                    <a:pt x="260" y="810"/>
                  </a:lnTo>
                  <a:lnTo>
                    <a:pt x="297" y="824"/>
                  </a:lnTo>
                  <a:lnTo>
                    <a:pt x="338" y="834"/>
                  </a:lnTo>
                  <a:lnTo>
                    <a:pt x="380" y="841"/>
                  </a:lnTo>
                  <a:lnTo>
                    <a:pt x="425" y="844"/>
                  </a:lnTo>
                  <a:lnTo>
                    <a:pt x="468" y="841"/>
                  </a:lnTo>
                  <a:lnTo>
                    <a:pt x="509" y="834"/>
                  </a:lnTo>
                  <a:lnTo>
                    <a:pt x="550" y="824"/>
                  </a:lnTo>
                  <a:lnTo>
                    <a:pt x="588" y="810"/>
                  </a:lnTo>
                  <a:lnTo>
                    <a:pt x="626" y="792"/>
                  </a:lnTo>
                  <a:lnTo>
                    <a:pt x="659" y="771"/>
                  </a:lnTo>
                  <a:lnTo>
                    <a:pt x="693" y="746"/>
                  </a:lnTo>
                  <a:lnTo>
                    <a:pt x="723" y="720"/>
                  </a:lnTo>
                  <a:lnTo>
                    <a:pt x="775" y="657"/>
                  </a:lnTo>
                  <a:lnTo>
                    <a:pt x="796" y="621"/>
                  </a:lnTo>
                  <a:lnTo>
                    <a:pt x="814" y="586"/>
                  </a:lnTo>
                  <a:lnTo>
                    <a:pt x="829" y="547"/>
                  </a:lnTo>
                  <a:lnTo>
                    <a:pt x="838" y="506"/>
                  </a:lnTo>
                  <a:lnTo>
                    <a:pt x="845" y="464"/>
                  </a:lnTo>
                  <a:lnTo>
                    <a:pt x="848" y="422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47"/>
            <p:cNvSpPr/>
            <p:nvPr/>
          </p:nvSpPr>
          <p:spPr>
            <a:xfrm>
              <a:off x="1944000" y="4804560"/>
              <a:ext cx="148680" cy="259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89" h="124">
                  <a:moveTo>
                    <a:pt x="0" y="5"/>
                  </a:moveTo>
                  <a:lnTo>
                    <a:pt x="39" y="41"/>
                  </a:lnTo>
                  <a:lnTo>
                    <a:pt x="74" y="68"/>
                  </a:lnTo>
                  <a:lnTo>
                    <a:pt x="111" y="88"/>
                  </a:lnTo>
                  <a:lnTo>
                    <a:pt x="146" y="100"/>
                  </a:lnTo>
                  <a:lnTo>
                    <a:pt x="187" y="110"/>
                  </a:lnTo>
                  <a:lnTo>
                    <a:pt x="229" y="117"/>
                  </a:lnTo>
                  <a:lnTo>
                    <a:pt x="339" y="123"/>
                  </a:lnTo>
                  <a:lnTo>
                    <a:pt x="401" y="120"/>
                  </a:lnTo>
                  <a:lnTo>
                    <a:pt x="458" y="111"/>
                  </a:lnTo>
                  <a:lnTo>
                    <a:pt x="513" y="97"/>
                  </a:lnTo>
                  <a:lnTo>
                    <a:pt x="562" y="81"/>
                  </a:lnTo>
                  <a:lnTo>
                    <a:pt x="604" y="60"/>
                  </a:lnTo>
                  <a:lnTo>
                    <a:pt x="641" y="39"/>
                  </a:lnTo>
                  <a:lnTo>
                    <a:pt x="688" y="0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48"/>
            <p:cNvSpPr/>
            <p:nvPr/>
          </p:nvSpPr>
          <p:spPr>
            <a:xfrm>
              <a:off x="1945800" y="4889880"/>
              <a:ext cx="146880" cy="241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81" h="116">
                  <a:moveTo>
                    <a:pt x="0" y="115"/>
                  </a:moveTo>
                  <a:lnTo>
                    <a:pt x="81" y="57"/>
                  </a:lnTo>
                  <a:lnTo>
                    <a:pt x="115" y="38"/>
                  </a:lnTo>
                  <a:lnTo>
                    <a:pt x="150" y="24"/>
                  </a:lnTo>
                  <a:lnTo>
                    <a:pt x="184" y="12"/>
                  </a:lnTo>
                  <a:lnTo>
                    <a:pt x="225" y="5"/>
                  </a:lnTo>
                  <a:lnTo>
                    <a:pt x="273" y="2"/>
                  </a:lnTo>
                  <a:lnTo>
                    <a:pt x="329" y="0"/>
                  </a:lnTo>
                  <a:lnTo>
                    <a:pt x="392" y="1"/>
                  </a:lnTo>
                  <a:lnTo>
                    <a:pt x="452" y="10"/>
                  </a:lnTo>
                  <a:lnTo>
                    <a:pt x="505" y="21"/>
                  </a:lnTo>
                  <a:lnTo>
                    <a:pt x="555" y="38"/>
                  </a:lnTo>
                  <a:lnTo>
                    <a:pt x="598" y="57"/>
                  </a:lnTo>
                  <a:lnTo>
                    <a:pt x="634" y="76"/>
                  </a:lnTo>
                  <a:lnTo>
                    <a:pt x="661" y="96"/>
                  </a:lnTo>
                  <a:lnTo>
                    <a:pt x="680" y="115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9"/>
            <p:cNvSpPr/>
            <p:nvPr/>
          </p:nvSpPr>
          <p:spPr>
            <a:xfrm>
              <a:off x="2017800" y="4771800"/>
              <a:ext cx="0" cy="17208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0"/>
            <p:cNvSpPr/>
            <p:nvPr/>
          </p:nvSpPr>
          <p:spPr>
            <a:xfrm>
              <a:off x="1929960" y="4858200"/>
              <a:ext cx="177840" cy="0"/>
            </a:xfrm>
            <a:prstGeom prst="line">
              <a:avLst/>
            </a:prstGeom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>
              <a:off x="1971720" y="4768200"/>
              <a:ext cx="46440" cy="1771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215" h="842">
                  <a:moveTo>
                    <a:pt x="214" y="0"/>
                  </a:moveTo>
                  <a:lnTo>
                    <a:pt x="171" y="41"/>
                  </a:lnTo>
                  <a:lnTo>
                    <a:pt x="128" y="86"/>
                  </a:lnTo>
                  <a:lnTo>
                    <a:pt x="93" y="136"/>
                  </a:lnTo>
                  <a:lnTo>
                    <a:pt x="62" y="188"/>
                  </a:lnTo>
                  <a:lnTo>
                    <a:pt x="35" y="243"/>
                  </a:lnTo>
                  <a:lnTo>
                    <a:pt x="15" y="303"/>
                  </a:lnTo>
                  <a:lnTo>
                    <a:pt x="9" y="332"/>
                  </a:lnTo>
                  <a:lnTo>
                    <a:pt x="4" y="363"/>
                  </a:lnTo>
                  <a:lnTo>
                    <a:pt x="1" y="392"/>
                  </a:lnTo>
                  <a:lnTo>
                    <a:pt x="0" y="421"/>
                  </a:lnTo>
                  <a:lnTo>
                    <a:pt x="4" y="482"/>
                  </a:lnTo>
                  <a:lnTo>
                    <a:pt x="14" y="541"/>
                  </a:lnTo>
                  <a:lnTo>
                    <a:pt x="29" y="598"/>
                  </a:lnTo>
                  <a:lnTo>
                    <a:pt x="53" y="651"/>
                  </a:lnTo>
                  <a:lnTo>
                    <a:pt x="82" y="704"/>
                  </a:lnTo>
                  <a:lnTo>
                    <a:pt x="117" y="754"/>
                  </a:lnTo>
                  <a:lnTo>
                    <a:pt x="157" y="799"/>
                  </a:lnTo>
                  <a:lnTo>
                    <a:pt x="199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>
              <a:off x="2017800" y="4768200"/>
              <a:ext cx="45360" cy="177120"/>
            </a:xfrm>
            <a:custGeom>
              <a:avLst/>
              <a:gdLst/>
              <a:ahLst/>
              <a:rect l="l" t="t" r="r" b="b"/>
              <a:pathLst>
                <a:path w="210" h="842">
                  <a:moveTo>
                    <a:pt x="0" y="0"/>
                  </a:moveTo>
                  <a:lnTo>
                    <a:pt x="43" y="41"/>
                  </a:lnTo>
                  <a:lnTo>
                    <a:pt x="83" y="86"/>
                  </a:lnTo>
                  <a:lnTo>
                    <a:pt x="119" y="136"/>
                  </a:lnTo>
                  <a:lnTo>
                    <a:pt x="150" y="188"/>
                  </a:lnTo>
                  <a:lnTo>
                    <a:pt x="175" y="243"/>
                  </a:lnTo>
                  <a:lnTo>
                    <a:pt x="193" y="303"/>
                  </a:lnTo>
                  <a:lnTo>
                    <a:pt x="204" y="363"/>
                  </a:lnTo>
                  <a:lnTo>
                    <a:pt x="209" y="421"/>
                  </a:lnTo>
                  <a:lnTo>
                    <a:pt x="206" y="482"/>
                  </a:lnTo>
                  <a:lnTo>
                    <a:pt x="195" y="541"/>
                  </a:lnTo>
                  <a:lnTo>
                    <a:pt x="179" y="598"/>
                  </a:lnTo>
                  <a:lnTo>
                    <a:pt x="156" y="651"/>
                  </a:lnTo>
                  <a:lnTo>
                    <a:pt x="128" y="704"/>
                  </a:lnTo>
                  <a:lnTo>
                    <a:pt x="95" y="754"/>
                  </a:lnTo>
                  <a:lnTo>
                    <a:pt x="57" y="799"/>
                  </a:lnTo>
                  <a:lnTo>
                    <a:pt x="13" y="841"/>
                  </a:lnTo>
                </a:path>
              </a:pathLst>
            </a:custGeom>
            <a:noFill/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>
              <a:off x="1901880" y="4748040"/>
              <a:ext cx="234000" cy="2174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83" h="1033">
                  <a:moveTo>
                    <a:pt x="0" y="0"/>
                  </a:moveTo>
                  <a:lnTo>
                    <a:pt x="1082" y="0"/>
                  </a:lnTo>
                  <a:lnTo>
                    <a:pt x="1082" y="1032"/>
                  </a:lnTo>
                  <a:lnTo>
                    <a:pt x="0" y="10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Some Important Provisions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(2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echnical Responsivenes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id that does not meet minimum acceptable standards of completeness, consistency and detail, and the specified minimum (or maximum, as the case may be) requirements for specified functional requirements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ill be rejected for non responsive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requirements carefully and provide quality go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data and bronchures to confirm the stated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st writing “we comply “ against specifications is not enoug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ach quality assurance certificates if requir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4760" indent="-178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 not manufacture goods have manufacturer authroisation certificate and warranty guarantee from manufactur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B4E-C7CA-4A65-9342-B9A4609F595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Important Provisions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(3)</a:t>
            </a:r>
            <a:br>
              <a:rPr sz="3600"/>
            </a:br>
            <a:r>
              <a:rPr b="1" lang="en-US" sz="2800" spc="-1" strike="noStrike">
                <a:solidFill>
                  <a:srgbClr val="404040"/>
                </a:solidFill>
                <a:latin typeface="Calibri Light"/>
              </a:rPr>
              <a:t>Fraudulent and Corrupt Practices</a:t>
            </a:r>
            <a:br>
              <a:rPr sz="36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04480" y="1371600"/>
            <a:ext cx="376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ypes of F&amp;C Pract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rrupt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audulent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us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erc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57636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bstructive pract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33640" y="1371240"/>
            <a:ext cx="577224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Bank Sanc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ject the proposal for awar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lare misprocurement and cancel the portion of the loan allocated to a contract if a representative of the Borrower is involved without the Borrower taking timely and appropriate a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lare firm or individual ineligible, indefinitely or for a stated period of tim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) to be awarded a Bank-financed contract; and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(ii) to be a nominated sub-contractor, consultant, supplier, or service provider in a Bank-financed contrac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</a:rPr>
              <a:t>LIST OF DEBARRED FIRMS &amp; INDIVIDUA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ttp://www.worldbank.org/debar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17680" indent="-18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FE3-FEDA-4134-8390-7DCED3E00C1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5600" y="334440"/>
            <a:ext cx="784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 Light"/>
              </a:rPr>
              <a:t>Anti-corruption Hotlin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07560" y="1127160"/>
            <a:ext cx="8502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partment of Institutional Integrity (IN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Toll-free: 1-800-831-0463 (24 hours/day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Collect call:  704-556-7046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BY MAIL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: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PMB 3767</a:t>
            </a:r>
            <a:br>
              <a:rPr sz="2400"/>
            </a:b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 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13950 BALLANTYNE CORPORATE PLACE</a:t>
            </a:r>
            <a:br>
              <a:rPr sz="2400"/>
            </a:b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	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      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CHARLOTTE, NC 28277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, U</a:t>
            </a:r>
            <a:r>
              <a:rPr b="0" lang="en-US" sz="2400" spc="-1" strike="noStrike">
                <a:solidFill>
                  <a:srgbClr val="344068"/>
                </a:solidFill>
                <a:latin typeface="Calibri Light"/>
                <a:ea typeface="Arial"/>
              </a:rPr>
              <a:t>S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Phone:  202-458-7677  Fax: 202-522-714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-mail: 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1"/>
              </a:rPr>
              <a:t>investigationshotline@worldbank.org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ebsite:  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2"/>
              </a:rPr>
              <a:t>www.worldbank.org/integrity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Click on "</a:t>
            </a:r>
            <a:r>
              <a:rPr b="0" lang="en-US" sz="2400" spc="-1" strike="noStrike" u="sng">
                <a:solidFill>
                  <a:srgbClr val="6eac1c"/>
                </a:solidFill>
                <a:uFillTx/>
                <a:latin typeface="Calibri"/>
                <a:ea typeface="Arial"/>
                <a:hlinkClick r:id="rId3"/>
              </a:rPr>
              <a:t>Online Complaint Form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"</a:t>
            </a:r>
            <a:br>
              <a:rPr sz="2000"/>
            </a:b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Arial"/>
              </a:rPr>
              <a:t>nonymous calls are accepted.  Please be as specific as possible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Critical and Important Provisions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Evaluation and Qualification Criteria (Section III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867960" y="2319480"/>
            <a:ext cx="8172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ree types of criteria used in evaluation of bid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xclusion/Eligibility Criteria as defined abo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nancial Capac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echnical Capac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91E2-9190-4DA1-B372-6775717E116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Qualification Criteria- Financial Capacit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67960" y="2165400"/>
            <a:ext cx="8172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Bidders should be financially sound  to take on contracts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Documentary evidence to be provided to include audited financial statements, balance sheets and letters from Bank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E20-597D-4FDB-BE94-4DFCC8AC9CED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Qualification Criteria- Technical Capacit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rectly related to the subject matter of contrac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 should have technical and logistical capacity to deliver within contract tim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ocumentary evidence may include evidence of  similar contracts, ownership or plans to own/hire specialized equipment, key staff qualifications (for installatio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F15-4900-4D97-8ADC-A6972745004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can bidders enhance their qualification (1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oint venture (JV) with other bidders. This can be for specific contract or period of time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Experience of all JV members  will be taken into account during evaluatio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V to nominate leader and leader has to meet specified minimum qualificatio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ll documents –letter of submission, bid security etc- to be in name of JV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JV is bound to the Employer/Purchase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D192-45E6-4BE4-B739-9FCA66E0C0A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can bidders enhance their qualification (2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nter into subcontractor or association type relationships with other bidd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ose arrangement for specific tender or period of ti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ly qualification of main bidder will be taken into accou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ecific circumstances where scope is varied, subcontractor  experience may be taken into accou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ubcontractor is not bound to the Employer/Purchas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id security to be in the name of the main contractor not subcontractor or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3D35-B9D0-4F5F-B5F9-EB89A419987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37800" y="0"/>
            <a:ext cx="817236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Typical qualification criteria that may be used under specific tenders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et exclusion/eligibility crite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Have turnover of at least equal to the  estimated contract amount (Your estimat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ash flow requirem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st have successfully completed 1-2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</a:rPr>
              <a:t>similar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contracts in the past 3-5 years or cumulatively supplied the equivalent quantities within relative peri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st have logistical capacity to deliver the goods or provide plans to acquire the logistical capacity to deliver goods on time. Delivery plan may be requir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key staff to be in charge of install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36600" indent="-16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fter sales services – Help desk availabil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D05-751B-47EE-AE53-2BDE4E848AB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92080" y="758880"/>
            <a:ext cx="817272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Part III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92080" y="445248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068"/>
                </a:solidFill>
                <a:latin typeface="Calibri Light"/>
              </a:rPr>
              <a:t>NEP SPECIFIC INFORM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D351-FE40-410A-AABB-51ADFCBF0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88840" y="3552840"/>
            <a:ext cx="8420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 Light"/>
              </a:rPr>
              <a:t>OVERALL CONTEX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58600" y="2453760"/>
            <a:ext cx="84200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4068"/>
                </a:solidFill>
                <a:latin typeface="Calibri Light"/>
              </a:rPr>
              <a:t>PART I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2" name="Footer Placeholder 5"/>
          <p:cNvSpPr/>
          <p:nvPr/>
        </p:nvSpPr>
        <p:spPr>
          <a:xfrm>
            <a:off x="3095640" y="6367320"/>
            <a:ext cx="371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F938-65A2-47BA-8F2A-277F1C6B487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Off-grid Activities (Phase I) : Responsibilities of PMO-DR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t up within the DRD under MLFRD, the PMO will be responsible for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efining contract packages of goods and servic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paring procurement plan and updates thereof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paring bidding documen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oordinating bid evaluatio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questing approval of evaluation reports from Government internal approval bodies as necessa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eking No Objection from the Bank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ontract implementation and ensuring goods received are of required quality as per contract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ngaging local governments at State/Region, District and Township level in selecting priority villag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72EB-B5CC-4136-B11E-06436BEC7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cope of goods and accessories to be procured under NEP Off-Grid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763200" y="2125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olar PV Systems for households, public institutions and street light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456,500 devices over 5 yea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rst year requirements – 165,000 de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ini-Grid Syste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565-E110-40F0-AA1A-E79F5E7C0D6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do we know about local suppli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re than 100 suppliers operating across the country in many reg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have been in operation for a periods ranging from 1 year to over 20 years with average of 5 yea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lf reported capacity varies from  500 to 38,000 units installed per yea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ajority of the suppliers have installed capacity of around 1,500 uni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otal Units installed by all suppliers were 49,000 in 2013/14, 192,000 in 2014/15 and in 2015/16 , 112,000 have been installed to 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y manufacturers? We do not have complete 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rms financial  turnover  and financial standing – No inform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806-1B18-45BF-B346-5E4BDBB5CC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will be the approach to procure these goods? (1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upply and installation of goods and accessories to defined location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Preliminary divided into  nine (9) geographical lots (State based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t size by number of devices  ranges from 16,000 to 39,000 unit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firm will be hired to monitor installation and its standard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9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6856-E223-43EB-8A53-CA31C594FB3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will be the approach to procure these goods? (2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892080" y="190188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Quantities required and value of goods is huge and would require international competition to deliver within  project ti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nternational competitive bidding (ICB) will be used to solicit bids. Adverts will be made globally in Englis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ICB approach is expected to drive unit costs down, raise the quality bar and facilitate partnership between foreign and local firm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mestic preference of locally  manufactured (not traded) goods of 15% will be given at choice of purchaser and stated in bidding documen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Bidders will be given adequate time of not less than 4 weeks to prepare bids  and form any association of their choi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4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NAY PYI TAW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74D-80B7-40BA-91DE-5FC683DA8D3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will these goods be procured? (3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will be post qualified. All qualification documents should be in the bid. No prequalification will be done under the projec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ward will be based on Lowest Evaluated Bid (LEB). LEB takes into account price and qualification of bidder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may be awarded a Lot or combination of Lots  subject to fulfilling qualification criteria for multiple lo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401-0A26-4482-A2E3-CA6706F4B1D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42680" y="76320"/>
            <a:ext cx="842004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9e0e6"/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Building Blocks of a Successful Bid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2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ED11-737D-4A35-8442-0528E8D8740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3"/>
          <p:cNvSpPr/>
          <p:nvPr/>
        </p:nvSpPr>
        <p:spPr>
          <a:xfrm>
            <a:off x="4788000" y="1752480"/>
            <a:ext cx="0" cy="39625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2541600" y="3743280"/>
            <a:ext cx="45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5199480" y="25639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-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3038760" y="438624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4803840" y="1554120"/>
            <a:ext cx="2816280" cy="2141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r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3"/>
          <p:cNvSpPr/>
          <p:nvPr/>
        </p:nvSpPr>
        <p:spPr>
          <a:xfrm>
            <a:off x="4770360" y="3809880"/>
            <a:ext cx="2865600" cy="2073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Play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0"/>
          <p:cNvSpPr/>
          <p:nvPr/>
        </p:nvSpPr>
        <p:spPr>
          <a:xfrm>
            <a:off x="1844640" y="3790800"/>
            <a:ext cx="2833560" cy="209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1828800" y="1554120"/>
            <a:ext cx="2849400" cy="215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2"/>
          <p:cNvSpPr/>
          <p:nvPr/>
        </p:nvSpPr>
        <p:spPr>
          <a:xfrm>
            <a:off x="2911320" y="3862440"/>
            <a:ext cx="64008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2"/>
          <p:cNvSpPr/>
          <p:nvPr/>
        </p:nvSpPr>
        <p:spPr>
          <a:xfrm>
            <a:off x="5851440" y="1744560"/>
            <a:ext cx="64152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"/>
          <p:cNvSpPr/>
          <p:nvPr/>
        </p:nvSpPr>
        <p:spPr>
          <a:xfrm>
            <a:off x="5883120" y="3908520"/>
            <a:ext cx="64008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"/>
          <p:cNvSpPr/>
          <p:nvPr/>
        </p:nvSpPr>
        <p:spPr>
          <a:xfrm>
            <a:off x="2971800" y="1728720"/>
            <a:ext cx="639720" cy="511200"/>
          </a:xfrm>
          <a:prstGeom prst="flowChartConnector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c70"/>
                </a:solidFill>
                <a:latin typeface="Calibri Light"/>
              </a:rPr>
              <a:t>Specific  Project Procurement Information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UN  Development Business – Adverts for all large value tenders (above US$200,000 for goods, US$300,000 for works and US$100,000  for consultancie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ank external website: 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1"/>
              </a:rPr>
              <a:t>http://documents.worldbank.or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n search for procurement plans for MM projects 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curement plans can be search from  : 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Calibri"/>
                <a:hlinkClick r:id="rId3"/>
              </a:rPr>
              <a:t>documents.worldbank.org/curated/en/docadvancesearch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http://worldbank.org, then go to 'Publication', select 'Documents and Reports', 'Advance Search', select country and document typ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contains first approv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dverts in local newspap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rrower implementing agency stated in Project Appraisal Docu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521-5740-40F6-81D7-BFDF26DD623F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When In Doub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34800" y="1276200"/>
            <a:ext cx="858528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sk up front, do NOT guess or assu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ntact the client in writing and seek clarif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sk for more time if necessar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f bidding documents have excessive requirements or other unacceptable conditions (restrictions, brand names, etc.), contact the client in writing before the bid closing date, asking for correction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py the World Bank (TTL , Regional Procurement Manager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member, the WB </a:t>
            </a:r>
            <a:r>
              <a:rPr b="0" i="1" lang="en-US" sz="2400" spc="-1" strike="noStrike">
                <a:solidFill>
                  <a:srgbClr val="404040"/>
                </a:solidFill>
                <a:latin typeface="Calibri"/>
              </a:rPr>
              <a:t>does not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vide clarification on behalf of the client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cade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Refer to appendix 3 “Guidance to Bidders” of Procurement </a:t>
            </a:r>
            <a:r>
              <a:rPr b="0" i="1" lang="en-US" sz="2400" spc="-1" strike="noStrike">
                <a:solidFill>
                  <a:srgbClr val="404040"/>
                </a:solidFill>
                <a:latin typeface="Calibri"/>
              </a:rPr>
              <a:t>Guideline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e9b0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6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C7D-1A5D-4341-856E-78744A0A2E2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Complaint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dress all queries or complaints to the Implementing Agenc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py the Bank (TTL + Regional Procurement Manager) or write to the Bank directly when borrowers do not respond promptly, or if the communication is a complaint against the Borrower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idders may request a debriefing about his bid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0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4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7F1-4A82-469B-94F0-588A6612BC6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22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362-3B3C-44CD-A0CF-541BD80F637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2"/>
          <p:cNvSpPr/>
          <p:nvPr/>
        </p:nvSpPr>
        <p:spPr>
          <a:xfrm rot="5400000">
            <a:off x="7253640" y="3917160"/>
            <a:ext cx="1692360" cy="2087640"/>
          </a:xfrm>
          <a:prstGeom prst="ellipse">
            <a:avLst/>
          </a:prstGeom>
          <a:solidFill>
            <a:srgbClr val="75b6e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"/>
          <p:cNvSpPr/>
          <p:nvPr/>
        </p:nvSpPr>
        <p:spPr>
          <a:xfrm rot="5400000">
            <a:off x="852840" y="3901320"/>
            <a:ext cx="1752480" cy="1966680"/>
          </a:xfrm>
          <a:prstGeom prst="flowChartConnector">
            <a:avLst/>
          </a:prstGeom>
          <a:solidFill>
            <a:srgbClr val="1cade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743040" y="380880"/>
            <a:ext cx="8423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743040" y="1217520"/>
            <a:ext cx="84232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-88920" y="2773440"/>
            <a:ext cx="328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Financ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836640" y="4694400"/>
            <a:ext cx="17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7260120" y="4449600"/>
            <a:ext cx="167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 rot="5400000">
            <a:off x="4001400" y="937080"/>
            <a:ext cx="1660320" cy="26208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5"/>
          <p:cNvSpPr/>
          <p:nvPr/>
        </p:nvSpPr>
        <p:spPr>
          <a:xfrm>
            <a:off x="3611520" y="1749600"/>
            <a:ext cx="23781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(Implem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</a:rPr>
              <a:t>Ag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6"/>
          <p:cNvSpPr/>
          <p:nvPr/>
        </p:nvSpPr>
        <p:spPr>
          <a:xfrm>
            <a:off x="6023160" y="2879640"/>
            <a:ext cx="458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Bidding Documents/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743040" y="1713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4068"/>
                </a:solidFill>
                <a:latin typeface="Arial"/>
              </a:rPr>
              <a:t>Key P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8"/>
          <p:cNvSpPr/>
          <p:nvPr/>
        </p:nvSpPr>
        <p:spPr>
          <a:xfrm rot="19040400">
            <a:off x="2293560" y="3311280"/>
            <a:ext cx="1687680" cy="315720"/>
          </a:xfrm>
          <a:prstGeom prst="leftRightArrow">
            <a:avLst>
              <a:gd name="adj1" fmla="val 50000"/>
              <a:gd name="adj2" fmla="val 50040"/>
            </a:avLst>
          </a:prstGeom>
          <a:solidFill>
            <a:srgbClr val="1cad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6231600" y="326088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(Contractual relationships</a:t>
            </a:r>
            <a:r>
              <a:rPr b="0" lang="en-US" sz="2400" spc="-1" strike="noStrike">
                <a:solidFill>
                  <a:srgbClr val="344068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/>
          <p:cNvSpPr/>
          <p:nvPr/>
        </p:nvSpPr>
        <p:spPr>
          <a:xfrm rot="13779600">
            <a:off x="5707440" y="3462840"/>
            <a:ext cx="1687680" cy="31752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1cad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d9e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Diagram 24" descr=""/>
          <p:cNvPicPr/>
          <p:nvPr/>
        </p:nvPicPr>
        <p:blipFill>
          <a:blip r:embed="rId1"/>
          <a:stretch/>
        </p:blipFill>
        <p:spPr>
          <a:xfrm>
            <a:off x="1682640" y="1816200"/>
            <a:ext cx="6602400" cy="4200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-381600" y="3154320"/>
            <a:ext cx="408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068"/>
                </a:solidFill>
                <a:latin typeface="Agency FB"/>
              </a:rPr>
              <a:t>(Contractual relationsh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677680" y="5897520"/>
            <a:ext cx="479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(Non Contractual relationships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ooter Placeholder 3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8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8FD-AD45-4DDE-AB2E-CED3D1FC429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709560" y="460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1816200" y="1981080"/>
            <a:ext cx="627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068"/>
                </a:solidFill>
                <a:latin typeface="Arial"/>
              </a:rPr>
              <a:t>Ssirijaratwong@worldbank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WordArt 4"/>
          <p:cNvSpPr txBox="1"/>
          <p:nvPr/>
        </p:nvSpPr>
        <p:spPr>
          <a:xfrm>
            <a:off x="1816200" y="2362320"/>
            <a:ext cx="603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2680" y="503280"/>
            <a:ext cx="842004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Calibri Light"/>
              </a:rPr>
              <a:t>Roles in Bank-funded Project</a:t>
            </a:r>
            <a:br>
              <a:rPr sz="43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081-CC74-425A-B236-04E5849029F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Diagram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8547120" cy="5583240"/>
          </a:xfrm>
          <a:prstGeom prst="rect">
            <a:avLst/>
          </a:prstGeom>
          <a:ln w="0">
            <a:noFill/>
          </a:ln>
        </p:spPr>
      </p:pic>
      <p:sp>
        <p:nvSpPr>
          <p:cNvPr id="630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1240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 Light"/>
              </a:rPr>
              <a:t>Roles in Procurement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000" y="974520"/>
            <a:ext cx="43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4068"/>
                </a:solidFill>
                <a:latin typeface="Agency FB"/>
              </a:rPr>
              <a:t>WORLD BAN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16000" y="1886040"/>
            <a:ext cx="49528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ssess country procurement system, capacity of implementing agency, and procurement risk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ssist in procurement plann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Training, knowledge/best practice shar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Monitor compliance with Financing Agreement an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Review bid documents and evaluation reports prior to issuance and award of contra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Investigate fraud and corruption alleg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32440" y="112356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4068"/>
                </a:solidFill>
                <a:latin typeface="Agency FB"/>
              </a:rPr>
              <a:t>DRD (IMPLEMENTING AGENCY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03880" y="1946160"/>
            <a:ext cx="4106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Prepare Procurement Plan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dvertise bidding opportuniti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Prepare/issue bidding document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Receive/evaluate bids/proposal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ward /Implement contract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Ensure compliance with Financing Agreement and Procurement Pla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gency FB"/>
              </a:rPr>
              <a:t>Arrange for project/program aud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Footer Placeholder 8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7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06E-937A-4A8F-B57A-F4CEEB8F17F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teps  and actors in bidding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892080" y="1846440"/>
          <a:ext cx="8172720" cy="4587840"/>
        </p:xfrm>
        <a:graphic>
          <a:graphicData uri="http://schemas.openxmlformats.org/drawingml/2006/table">
            <a:tbl>
              <a:tblPr/>
              <a:tblGrid>
                <a:gridCol w="2809800"/>
                <a:gridCol w="1851120"/>
                <a:gridCol w="1468440"/>
                <a:gridCol w="204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ment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k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procurement plan and cost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ertise an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ys or coll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fication on bidding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k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ssion of b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, records in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b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 of 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641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782-C692-42F7-9C7B-B85DBC1BB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Key Documents to Guide Procurement under the Projec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92080" y="184644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nancing Agreement signed between Government and World Ban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Appraisal Document (PA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 Bank Procurement and Consultant Guideli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ject Operations Manu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internal processes and procedures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Calibri"/>
              </a:rPr>
              <a:t>agreed with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Bank for the implementation of the  projec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greed Procurement Pla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139-FA50-40AF-A4EF-08C6927A9D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92080" y="287280"/>
            <a:ext cx="8172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 </a:t>
            </a:r>
            <a:r>
              <a:rPr b="0" lang="en-GB" sz="3800" spc="-1" strike="noStrike">
                <a:solidFill>
                  <a:srgbClr val="404040"/>
                </a:solidFill>
                <a:latin typeface="Calibri Light"/>
              </a:rPr>
              <a:t>Bank Policy objectives in Procurement</a:t>
            </a:r>
            <a:endParaRPr b="0" lang="en-US" sz="3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892080" y="1879560"/>
            <a:ext cx="81727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NEED FOR ECONOMY AND EFFICI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Value for money and method should commensurate with speed and valu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GIVE ELIGIBLE BIDDERS OPPORTUNITY TO BI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Advertise widely locally in at least two newspapers of wide national circulation and UNDB websit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ENCOURAGE DEVELOPMENT OF LOCAL INDUSTR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</a:rPr>
              <a:t>Provide domestic preference of 15% in evaluation to local manufacturers and 7.5% for local contractors under International Competitive Bidd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</a:rPr>
              <a:t>TRANSPARENC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valuation by committee, advertise widely and publish award results. Bidders free to complain, prepare and publish procurement pl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8043840" y="645948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1AAF6A7-8EBA-471D-9785-CAEA83C8F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892080" y="6459480"/>
            <a:ext cx="200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24,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995560" y="6459480"/>
            <a:ext cx="391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SINESS OUTREACH SEMINAR IN  YANGON, REPUBLIC OF THE UNION OF MYAN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8:21:56Z</dcterms:created>
  <dc:creator>Knut Leipold</dc:creator>
  <dc:description/>
  <dc:language>en-US</dc:language>
  <cp:lastModifiedBy>Chaw Su Devi</cp:lastModifiedBy>
  <cp:lastPrinted>2015-10-26T03:41:01Z</cp:lastPrinted>
  <dcterms:modified xsi:type="dcterms:W3CDTF">2015-12-08T07:15:54Z</dcterms:modified>
  <cp:revision>1223</cp:revision>
  <dc:subject>Forum Stuttgart</dc:subject>
  <dc:title>Business Seminar</dc:title>
</cp:coreProperties>
</file>